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26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png" ContentType="image/png"/>
  <Override PartName="/ppt/media/image3.wmf" ContentType="image/x-wmf"/>
  <Override PartName="/ppt/media/image23.png" ContentType="image/png"/>
  <Override PartName="/ppt/media/image13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DD5-BEF6-4AB1-8B94-7582FBF3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F39-A925-40A2-B5A9-DEF8181B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745-C9AA-4C77-B265-BB43756D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D63-4AA7-4CE3-ACC8-E775766D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4F0-4D81-48EA-9E0B-65A397E9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5DE-25EE-469C-A994-90637583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9F8-2B5D-4BBA-A9B1-9C3B8BAE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FBB-9D9D-4449-873B-E39D7B79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4A0-5818-4BCF-AC9F-E93393C9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79E-9A6A-4B55-ACEB-FCF8E7EA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134-EE93-4E69-A481-A68AFE49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B36-94B2-45B2-92A5-85E34C8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E2B55-14C9-44E4-A6F5-71E5F4C99C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lipart.com/en/close-up?o=3775250&amp;memlevel=A&amp;a=a&amp;q=fishing&amp;k_mode=all&amp;s=1&amp;e=18&amp;show=&amp;c=&amp;cid=&amp;findincat=&amp;g=&amp;cc=&amp;page=&amp;k_exc=&amp;pubid=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066680"/>
            <a:ext cx="7467480" cy="101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or Success, Attitude is as important as 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81280" y="2971800"/>
            <a:ext cx="487692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 come !!!  Let's learn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4495680"/>
            <a:ext cx="7981920" cy="152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How to communicate with the right attitude..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p:transition spd="med" advTm="8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da29b"/>
                </a:solidFill>
                <a:latin typeface="Arial"/>
              </a:rPr>
              <a:t>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Com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ize the v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scious / self 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take it pers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ch yourself emo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00600" y="1219320"/>
          <a:ext cx="434340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219320"/>
                    <a:ext cx="4343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457200" y="4952880"/>
            <a:ext cx="838188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ont take the bait ; Dont get " Hooked 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MI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SSE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45720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0"/>
                <a:gd name="adj2" fmla="val 431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Communication Styl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p:transition spd="med" advTm="8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ggressive </a:t>
            </a:r>
            <a:r>
              <a:rPr b="1" lang="en-US" sz="3200" spc="-1" strike="noStrike">
                <a:solidFill>
                  <a:srgbClr val="fda29b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miss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da29b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419076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867280" y="2286000"/>
            <a:ext cx="3124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63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Y need is more important than you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63"/>
              </a:spcBef>
              <a:buClr>
                <a:srgbClr val="ccffff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need is more important than m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Assertive </a:t>
            </a:r>
            <a:r>
              <a:rPr b="1" lang="en-US" sz="3200" spc="-1" strike="noStrike">
                <a:solidFill>
                  <a:srgbClr val="fda29b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>
            <a:off x="5638680" y="3124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Both our needs   are important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at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feeling, acknowledging and affirming another person’s emotional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teraction needs to take care of the “ Human Aspect” and the “ Business    Need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-910908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-9109080"/>
            <a:ext cx="182160" cy="25077240"/>
            <a:chOff x="0" y="-9109080"/>
            <a:chExt cx="182160" cy="25077240"/>
          </a:xfrm>
        </p:grpSpPr>
        <p:sp>
          <p:nvSpPr>
            <p:cNvPr id="120" name=""/>
            <p:cNvSpPr/>
            <p:nvPr/>
          </p:nvSpPr>
          <p:spPr>
            <a:xfrm>
              <a:off x="0" y="-8591400"/>
              <a:ext cx="180720" cy="245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34800" indent="-334800" algn="ctr">
                <a:lnSpc>
                  <a:spcPct val="100000"/>
                </a:lnSpc>
                <a:tabLst>
                  <a:tab algn="l" pos="0"/>
                  <a:tab algn="l" pos="334800"/>
                  <a:tab algn="l" pos="792000"/>
                  <a:tab algn="l" pos="1249200"/>
                  <a:tab algn="l" pos="1706400"/>
                  <a:tab algn="l" pos="2163600"/>
                  <a:tab algn="l" pos="2620800"/>
                  <a:tab algn="l" pos="3078000"/>
                  <a:tab algn="l" pos="3535200"/>
                  <a:tab algn="l" pos="3992400"/>
                  <a:tab algn="l" pos="4449600"/>
                  <a:tab algn="l" pos="4906800"/>
                  <a:tab algn="l" pos="5364000"/>
                  <a:tab algn="l" pos="5821200"/>
                  <a:tab algn="l" pos="6278400"/>
                  <a:tab algn="l" pos="6735600"/>
                  <a:tab algn="l" pos="7192800"/>
                  <a:tab algn="l" pos="7650000"/>
                  <a:tab algn="l" pos="8107200"/>
                  <a:tab algn="l" pos="8564400"/>
                  <a:tab algn="l" pos="9021600"/>
                  <a:tab algn="l" pos="9478800"/>
                  <a:tab algn="l" pos="96012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Verdana"/>
                </a:rPr>
                <a:t>  </a:t>
              </a:r>
              <a:r>
                <a:rPr b="0" lang="en-US" sz="21000" spc="-1" strike="noStrike">
                  <a:solidFill>
                    <a:srgbClr val="666666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666666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-9109080"/>
              <a:ext cx="180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-9109080"/>
              <a:ext cx="18072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5966720"/>
              <a:ext cx="1807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-9109080"/>
              <a:ext cx="1080" cy="2507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0720" y="-9109080"/>
              <a:ext cx="1440" cy="2507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360" y="-8423280"/>
            <a:ext cx="3305160" cy="3333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-910908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-9109080"/>
            <a:ext cx="182160" cy="25077240"/>
            <a:chOff x="0" y="-9109080"/>
            <a:chExt cx="182160" cy="25077240"/>
          </a:xfrm>
        </p:grpSpPr>
        <p:sp>
          <p:nvSpPr>
            <p:cNvPr id="129" name=""/>
            <p:cNvSpPr/>
            <p:nvPr/>
          </p:nvSpPr>
          <p:spPr>
            <a:xfrm>
              <a:off x="0" y="-8591400"/>
              <a:ext cx="180720" cy="245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34800" indent="-334800" algn="ctr">
                <a:lnSpc>
                  <a:spcPct val="100000"/>
                </a:lnSpc>
                <a:tabLst>
                  <a:tab algn="l" pos="0"/>
                  <a:tab algn="l" pos="334800"/>
                  <a:tab algn="l" pos="792000"/>
                  <a:tab algn="l" pos="1249200"/>
                  <a:tab algn="l" pos="1706400"/>
                  <a:tab algn="l" pos="2163600"/>
                  <a:tab algn="l" pos="2620800"/>
                  <a:tab algn="l" pos="3078000"/>
                  <a:tab algn="l" pos="3535200"/>
                  <a:tab algn="l" pos="3992400"/>
                  <a:tab algn="l" pos="4449600"/>
                  <a:tab algn="l" pos="4906800"/>
                  <a:tab algn="l" pos="5364000"/>
                  <a:tab algn="l" pos="5821200"/>
                  <a:tab algn="l" pos="6278400"/>
                  <a:tab algn="l" pos="6735600"/>
                  <a:tab algn="l" pos="7192800"/>
                  <a:tab algn="l" pos="7650000"/>
                  <a:tab algn="l" pos="8107200"/>
                  <a:tab algn="l" pos="8564400"/>
                  <a:tab algn="l" pos="9021600"/>
                  <a:tab algn="l" pos="9478800"/>
                  <a:tab algn="l" pos="96012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Verdana"/>
                </a:rPr>
                <a:t>  </a:t>
              </a:r>
              <a:r>
                <a:rPr b="0" lang="en-US" sz="21000" spc="-1" strike="noStrike">
                  <a:solidFill>
                    <a:srgbClr val="666666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666666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-9109080"/>
              <a:ext cx="180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-9109080"/>
              <a:ext cx="18072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15966720"/>
              <a:ext cx="1807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-9109080"/>
              <a:ext cx="1080" cy="2507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0720" y="-9109080"/>
              <a:ext cx="1440" cy="2507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360" y="-8423280"/>
            <a:ext cx="3305160" cy="3333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33520" y="52578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Customers dont CARE what you KNOW, unless they KNOW that you CARE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14600" y="228600"/>
            <a:ext cx="3809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PATH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76520" y="83808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show empathy...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133720"/>
            <a:ext cx="838188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must have been annoying Mr. Johns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can certainly imagine how frustrating that could be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 I been at your place I would have felt the same way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a valid point. It can definitely be very upsetting when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understand your point of view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wev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’S NOT NECESSARY THAT SOMETHING CATASTROPHIC HAS TO HAPPEN  FOR YOU TO EMPATH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895480" y="2286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POLOG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2971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1447920"/>
            <a:ext cx="5105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828800"/>
            <a:ext cx="541008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pression of regret for a mistake or wrong with implied admission of fa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acify irate 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ology is need based and is offered when   ever the member is in a complaining mode and sounds unhap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76520" y="762120"/>
            <a:ext cx="58672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apologize...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362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incerely apologize for the inconvenience Mr. Johns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61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 is the ability to instill the confidence in the customer that they are in the right h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store the customer’s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895840" cy="2514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743200" y="304920"/>
            <a:ext cx="3657600" cy="72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SSURANC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556272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important thing to be kept in mind is that while assuring the agent must not end up making a promise of something that cannot be deliv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28600" y="487692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09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3320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057400" y="533520"/>
            <a:ext cx="49528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Assure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24382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definitely do my best to resolve this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take care of it right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038480" cy="3035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103480" cy="218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53080" y="4419720"/>
            <a:ext cx="2200320" cy="2187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1420000">
            <a:off x="906120" y="2979360"/>
            <a:ext cx="1676520" cy="6858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100000">
            <a:off x="3767040" y="4138560"/>
            <a:ext cx="711360" cy="4146480"/>
          </a:xfrm>
          <a:custGeom>
            <a:avLst/>
            <a:gdLst>
              <a:gd name="textAreaLeft" fmla="*/ 95040 w 711360"/>
              <a:gd name="textAreaRight" fmla="*/ 616320 w 711360"/>
              <a:gd name="textAreaTop" fmla="*/ 729360 h 4146480"/>
              <a:gd name="textAreaBottom" fmla="*/ 299484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240000">
            <a:off x="6453360" y="1248840"/>
            <a:ext cx="2210040" cy="2286000"/>
          </a:xfrm>
          <a:custGeom>
            <a:avLst/>
            <a:gdLst>
              <a:gd name="textAreaLeft" fmla="*/ 295920 w 2210040"/>
              <a:gd name="textAreaRight" fmla="*/ 1914120 w 2210040"/>
              <a:gd name="textAreaTop" fmla="*/ 402120 h 2286000"/>
              <a:gd name="textAreaBottom" fmla="*/ 165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igger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s and Phr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680" y="533520"/>
            <a:ext cx="7010640" cy="72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suggest formally...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597320"/>
            <a:ext cx="35812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s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bout………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not……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, I suggest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I suggest that ……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I were you I wou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614760" cy="52178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28800" y="68580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Agree..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4038480" cy="3727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3520" y="2971800"/>
            <a:ext cx="396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bsolutely agree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’s correc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’s tr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’m of the same opin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, if you ask me, I’d s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’s right, however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905120" y="60948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disagree.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562720" y="2057400"/>
            <a:ext cx="3338280" cy="4443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4038480" cy="4197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 Vs 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819520" y="1828800"/>
          <a:ext cx="41148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828800"/>
                    <a:ext cx="41148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943600" y="2438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ing is just a physical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3623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involves the heart, the mind and the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4038480"/>
            <a:ext cx="23623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ing is the act of picking up audible s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132440"/>
            <a:ext cx="327672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, however requires concentration, so that the brain processes meaning from words and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List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Listening involves appropriate listening sounds, eg: Uhum, yes, ok, fine etc so that the customer knows that you are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simply listens without respo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ve Listening means listen and then reflect back what you understood. Remember……do paraphrase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n’t parr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743200" y="5257800"/>
          <a:ext cx="175248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257800"/>
                    <a:ext cx="17524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8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LISTEN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333960" cy="2438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762120" y="5638680"/>
            <a:ext cx="76960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 We often hear what we want to hear 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s to 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34290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 and e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retention / Lack of atten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d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1066680"/>
            <a:ext cx="1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75248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75248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175248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286000"/>
            <a:ext cx="266724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2209680"/>
            <a:ext cx="274320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3886200"/>
            <a:ext cx="2057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y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352680" y="1143000"/>
          <a:ext cx="57913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143000"/>
                    <a:ext cx="57913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742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da29b"/>
                </a:solidFill>
                <a:latin typeface="Arial"/>
              </a:rPr>
              <a:t>What is Perce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362320"/>
            <a:ext cx="46479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ntal image formed due to jumping to conclusions or passing judgments  too early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ption is a human nature. It impacts every sphere of our li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: 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4876920"/>
            <a:ext cx="54104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Perception Ga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6095880"/>
            <a:ext cx="8791560" cy="28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" Human minds refuse to take anything at the face value of it in a simple form 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7524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 and Emo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fda29b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da29b"/>
                </a:solidFill>
                <a:latin typeface="Arial"/>
              </a:rPr>
              <a:t>Hooks – What is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09680"/>
            <a:ext cx="56386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ook is any behaviour ( from the customer/ another person ) that leads us to an uncomfortable feeling of being accused or being criticized and negative emotions are fuelled in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s might be in the form o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ue jud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c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: Road 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6172200"/>
            <a:ext cx="8458200" cy="428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iving a negative for a negative never gives a positive outcome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8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tem3</cp:lastModifiedBy>
  <dcterms:modified xsi:type="dcterms:W3CDTF">2009-08-25T09:15:30Z</dcterms:modified>
  <cp:revision>0</cp:revision>
  <dc:subject/>
  <dc:title> </dc:title>
</cp:coreProperties>
</file>